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B407-3799-46C2-9241-A46AB02A4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BCB4-796B-4470-A373-8C721053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113D-287C-44C2-9238-8B6F386DC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0C00-856A-46AA-BFFB-D91FB89A3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50CD-7A00-4FD3-A651-9ACB1171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9C1F-CDDB-4FF6-A946-800C13FC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C95E-4E5C-4D02-84E3-182AABDD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5601-CF80-477E-B9F3-414F58B3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CEC9-5785-4C10-8A15-4494559A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78DC-CB12-48BE-B03C-939F6F68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A435-5C5D-41FB-BF49-C6C6D977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C73C-07DD-41B1-BF41-52C98380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2A77E-9207-4C99-B1A7-7512FDEF4B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Title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some.open-source-project.site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lurb about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: (for more inform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reen Shot Descrip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some.open-source-project.site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9920" y="474480"/>
            <a:ext cx="9070920" cy="16268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Smo” River Watch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gis.ci.stpaul.mn.u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69840" y="2108160"/>
            <a:ext cx="8196480" cy="4749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. Paul “River Watch” information map was the result of a cooperative project during the spring of 2011 river flooding that included the local wing of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vil Air Patr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ty of Saint Pau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n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sk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dGe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 local non-prof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:  bob.basques@ci.stpaul.mn.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y of Saint Paul River Watch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gis.ci.stpaul.mn.u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1674720"/>
            <a:ext cx="8238960" cy="5730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18:30:48Z</dcterms:created>
  <dc:creator/>
  <dc:description/>
  <dc:language>en-US</dc:language>
  <cp:lastModifiedBy/>
  <dcterms:modified xsi:type="dcterms:W3CDTF">2012-09-26T19:05:37Z</dcterms:modified>
  <cp:revision>0</cp:revision>
  <dc:subject/>
  <dc:title/>
</cp:coreProperties>
</file>