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D90-D271-48D5-AEB4-538D1417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AA3-69E9-4E2A-A0BC-8F8B61D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C25-71D0-4D65-8BA0-64E89342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B67-4344-4751-8DF4-6F58A00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FC3-B2D1-4094-89AA-06BAD194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F7F-ECF9-4534-B863-48A275C4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EFA-B1CD-4753-AD01-4C653296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37E-F44A-4096-B08A-1F68E0A7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CE0-D164-4D66-9C6E-A16B1596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CB2-D22D-4258-B53B-29C13E9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A05-591C-4443-9D12-D3742A0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9E1-9580-4D29-B686-EF30F80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4DEE5-5BAC-48D8-BC68-D7F7E1A4C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Titl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ome.open-source-project.s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urb about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(for more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 Shot Descrip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ome.open-source-project.s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474480"/>
            <a:ext cx="907092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Smo” River Wat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is.ci.stpaul.mn.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69840" y="2108160"/>
            <a:ext cx="819648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. Paul “River Watch” information map was the result of a cooperative project during the spring of 2011 river flooding that included the local wing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 Air Pa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y of Saint Pa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s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G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local non-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 bob.basques@ci.stpaul.mn.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of Saint Paul River Wat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is.ci.stpaul.mn.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4720"/>
            <a:ext cx="8238960" cy="573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8:30:48Z</dcterms:created>
  <dc:creator/>
  <dc:description/>
  <dc:language>en-US</dc:language>
  <cp:lastModifiedBy/>
  <dcterms:modified xsi:type="dcterms:W3CDTF">2012-09-26T19:05:37Z</dcterms:modified>
  <cp:revision>0</cp:revision>
  <dc:subject/>
  <dc:title/>
</cp:coreProperties>
</file>