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144-2E19-48C9-849D-3C483A78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77F-ADB8-4E20-A388-9B5F701C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C3A-0B75-48CD-9EFE-DF507960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08F-81A5-4D76-B0C9-B8BE9F01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78B-E6EA-40E4-B773-BDCE6022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4FA-5846-40BB-A61D-70D0664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569-52D9-4DF6-9E66-769BF2FF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DEB-2F80-4F60-AF99-498D666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66B-2EC5-49EE-B961-FD61C7E8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8A0-2E4F-4E65-B842-6F03F7F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5CF-5F49-410F-A835-0B7D3A1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C52-B4EB-4131-9904-FAE77DBB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B9F8-3A61-4044-93E5-74ECCB7D5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Titl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ome.open-source-project.s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urb about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(for more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 Shot Descrip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ome.open-source-project.s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474480"/>
            <a:ext cx="907092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Smo” River Wat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is.ci.stpaul.mn.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69840" y="2108160"/>
            <a:ext cx="819648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. Paul “River Watch” information map was the result of a cooperative project during the spring of 2011 river flooding that included the local wing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 Air Pa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y of Saint Pa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s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G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local non-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 bob.basques@ci.stpaul.mn.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of Saint Paul River Wat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is.ci.stpaul.mn.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4720"/>
            <a:ext cx="8238960" cy="573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8:30:48Z</dcterms:created>
  <dc:creator/>
  <dc:description/>
  <dc:language>en-US</dc:language>
  <cp:lastModifiedBy/>
  <dcterms:modified xsi:type="dcterms:W3CDTF">2012-09-26T19:05:37Z</dcterms:modified>
  <cp:revision>0</cp:revision>
  <dc:subject/>
  <dc:title/>
</cp:coreProperties>
</file>